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4336-D0B7-48E9-8A2B-C947B05C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A958-2C23-4BD2-B1D9-7C8168D4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0040-8F9E-408B-B215-1C46D5D32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B9D6-142B-40EE-8316-F787D377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505F-3F1C-4B52-9563-45C09A41E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FC8E-0A77-4E6B-A3B0-7DA0C04D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E407-F7BC-44EE-9B22-BFAF290E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E341-06A2-4753-BAEC-D88D5F81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C295-F388-44A8-BFC4-F58899B3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FDE5-CA67-464D-8DBA-34F4FB9C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6137-4928-423F-9A18-12CBE32B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4B62-A0B6-442E-9EC7-DFAB28B8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18F0-E716-4F30-8BB8-9FF2A6ED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B064-CD52-471F-B299-3F3E50EA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CF1D-69E3-4668-B860-17CD59FE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5154-3A3A-42A4-BB82-AD296D83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06AF-4E82-432B-83E9-472297F10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13C5-4E15-441B-91E1-014DA993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E2E5-80F7-47D6-AAB8-790B1FB0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6F4D-7610-4E75-A0E6-6A86BE6F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5723-C6EE-42EF-9521-215ADA27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902F-ACDB-47B8-8B99-0AAAE47F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26EF-C39B-482F-9C55-2DF4C3D1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93BB-8189-4F31-87F0-6B58D458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CAF9-9446-467B-8459-102490214EB0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32AB-5B0E-4FDB-9EF9-B7C5CCEE9D0E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7d47d"/>
                </a:solidFill>
                <a:latin typeface="Arial"/>
              </a:rPr>
              <a:t>ALTE ROMANE  REALISTE INTERBELICE</a:t>
            </a:r>
            <a:endParaRPr b="0" lang="en-US" sz="1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836360" y="4021200"/>
            <a:ext cx="5745240" cy="10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2f1311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2f1311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2f1311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7d47d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7d47d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7d47d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f7d47d"/>
                </a:solidFill>
                <a:latin typeface="Arial"/>
              </a:rPr>
              <a:t>Examenul de bacalaureat 2012</a:t>
            </a:r>
            <a:br>
              <a:rPr sz="900"/>
            </a:br>
            <a:r>
              <a:rPr b="0" lang="ro-RO" sz="900" spc="-1" strike="noStrike">
                <a:solidFill>
                  <a:srgbClr val="f7d47d"/>
                </a:solidFill>
                <a:latin typeface="Arial"/>
              </a:rPr>
              <a:t>Proba de evaluare a competenţelor digitale</a:t>
            </a:r>
            <a:r>
              <a:rPr b="0" lang="en-US" sz="900" spc="-1" strike="noStrike">
                <a:solidFill>
                  <a:srgbClr val="f7d47d"/>
                </a:solidFill>
                <a:latin typeface="Arial"/>
              </a:rPr>
              <a:t> – document de lucru</a:t>
            </a:r>
            <a:endParaRPr b="0" lang="en-US" sz="9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Picture 11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4876920" y="144792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2f1311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2f1311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2f1311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2f1311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2f1311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2f1311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2f1311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2f1311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2f1311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7d47d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7d47d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7d47d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b3s3</cp:lastModifiedBy>
  <dcterms:modified xsi:type="dcterms:W3CDTF">2012-06-19T11:30:32Z</dcterms:modified>
  <cp:revision>24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